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7556400" cy="10691640"/>
            <a:chOff x="0" y="0"/>
            <a:chExt cx="7556400" cy="1069164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7556400" cy="10691640"/>
            </a:xfrm>
            <a:custGeom>
              <a:avLst/>
              <a:gdLst/>
              <a:ahLst/>
              <a:rect l="l" t="t" r="r" b="b"/>
              <a:pathLst>
                <a:path w="20992" h="29701">
                  <a:moveTo>
                    <a:pt x="3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0" y="5"/>
                    <a:pt x="0" y="3"/>
                    <a:pt x="0" y="29696"/>
                  </a:cubicBezTo>
                  <a:cubicBezTo>
                    <a:pt x="0" y="29698"/>
                    <a:pt x="1" y="29700"/>
                    <a:pt x="3" y="29700"/>
                  </a:cubicBezTo>
                  <a:cubicBezTo>
                    <a:pt x="5" y="29700"/>
                    <a:pt x="3" y="29700"/>
                    <a:pt x="20987" y="29700"/>
                  </a:cubicBezTo>
                  <a:cubicBezTo>
                    <a:pt x="20989" y="29700"/>
                    <a:pt x="20991" y="29698"/>
                    <a:pt x="20991" y="29696"/>
                  </a:cubicBezTo>
                  <a:cubicBezTo>
                    <a:pt x="20991" y="29694"/>
                    <a:pt x="20991" y="29696"/>
                    <a:pt x="20991" y="3"/>
                  </a:cubicBezTo>
                  <a:cubicBezTo>
                    <a:pt x="20991" y="1"/>
                    <a:pt x="20989" y="0"/>
                    <a:pt x="20987" y="0"/>
                  </a:cubicBezTo>
                  <a:cubicBezTo>
                    <a:pt x="20985" y="0"/>
                    <a:pt x="20987" y="0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0" y="0"/>
            <a:ext cx="7556400" cy="10691640"/>
            <a:chOff x="0" y="0"/>
            <a:chExt cx="7556400" cy="1069164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7556400" cy="10691640"/>
            </a:xfrm>
            <a:custGeom>
              <a:avLst/>
              <a:gdLst/>
              <a:ahLst/>
              <a:rect l="l" t="t" r="r" b="b"/>
              <a:pathLst>
                <a:path w="20992" h="29701">
                  <a:moveTo>
                    <a:pt x="3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0" y="5"/>
                    <a:pt x="0" y="3"/>
                    <a:pt x="0" y="29696"/>
                  </a:cubicBezTo>
                  <a:cubicBezTo>
                    <a:pt x="0" y="29698"/>
                    <a:pt x="1" y="29700"/>
                    <a:pt x="3" y="29700"/>
                  </a:cubicBezTo>
                  <a:cubicBezTo>
                    <a:pt x="5" y="29700"/>
                    <a:pt x="3" y="29700"/>
                    <a:pt x="20987" y="29700"/>
                  </a:cubicBezTo>
                  <a:cubicBezTo>
                    <a:pt x="20989" y="29700"/>
                    <a:pt x="20991" y="29698"/>
                    <a:pt x="20991" y="29696"/>
                  </a:cubicBezTo>
                  <a:cubicBezTo>
                    <a:pt x="20991" y="29694"/>
                    <a:pt x="20991" y="29696"/>
                    <a:pt x="20991" y="3"/>
                  </a:cubicBezTo>
                  <a:cubicBezTo>
                    <a:pt x="20991" y="1"/>
                    <a:pt x="20989" y="0"/>
                    <a:pt x="20987" y="0"/>
                  </a:cubicBezTo>
                  <a:cubicBezTo>
                    <a:pt x="20985" y="0"/>
                    <a:pt x="20987" y="0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0" y="0"/>
            <a:ext cx="7556400" cy="10691640"/>
            <a:chOff x="0" y="0"/>
            <a:chExt cx="7556400" cy="1069164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7556400" cy="10691640"/>
            </a:xfrm>
            <a:custGeom>
              <a:avLst/>
              <a:gdLst/>
              <a:ahLst/>
              <a:rect l="l" t="t" r="r" b="b"/>
              <a:pathLst>
                <a:path w="20992" h="29701">
                  <a:moveTo>
                    <a:pt x="3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0" y="5"/>
                    <a:pt x="0" y="3"/>
                    <a:pt x="0" y="29696"/>
                  </a:cubicBezTo>
                  <a:cubicBezTo>
                    <a:pt x="0" y="29698"/>
                    <a:pt x="1" y="29700"/>
                    <a:pt x="3" y="29700"/>
                  </a:cubicBezTo>
                  <a:cubicBezTo>
                    <a:pt x="5" y="29700"/>
                    <a:pt x="3" y="29700"/>
                    <a:pt x="20987" y="29700"/>
                  </a:cubicBezTo>
                  <a:cubicBezTo>
                    <a:pt x="20989" y="29700"/>
                    <a:pt x="20991" y="29698"/>
                    <a:pt x="20991" y="29696"/>
                  </a:cubicBezTo>
                  <a:cubicBezTo>
                    <a:pt x="20991" y="29694"/>
                    <a:pt x="20991" y="29696"/>
                    <a:pt x="20991" y="3"/>
                  </a:cubicBezTo>
                  <a:cubicBezTo>
                    <a:pt x="20991" y="1"/>
                    <a:pt x="20989" y="0"/>
                    <a:pt x="20987" y="0"/>
                  </a:cubicBezTo>
                  <a:cubicBezTo>
                    <a:pt x="20985" y="0"/>
                    <a:pt x="20987" y="0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264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168200" y="5087880"/>
            <a:ext cx="5214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312920" y="1027080"/>
            <a:ext cx="4932360" cy="3703680"/>
            <a:chOff x="1312920" y="1027080"/>
            <a:chExt cx="4932360" cy="3703680"/>
          </a:xfrm>
        </p:grpSpPr>
        <p:sp>
          <p:nvSpPr>
            <p:cNvPr id="100" name=""/>
            <p:cNvSpPr/>
            <p:nvPr/>
          </p:nvSpPr>
          <p:spPr>
            <a:xfrm>
              <a:off x="1312920" y="1027080"/>
              <a:ext cx="4932360" cy="3703680"/>
            </a:xfrm>
            <a:custGeom>
              <a:avLst/>
              <a:gdLst/>
              <a:ahLst/>
              <a:rect l="l" t="t" r="r" b="b"/>
              <a:pathLst>
                <a:path w="13703" h="10286">
                  <a:moveTo>
                    <a:pt x="0" y="0"/>
                  </a:moveTo>
                  <a:lnTo>
                    <a:pt x="13702" y="0"/>
                  </a:lnTo>
                  <a:lnTo>
                    <a:pt x="13702" y="10285"/>
                  </a:lnTo>
                  <a:lnTo>
                    <a:pt x="0" y="1028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1640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1312920" y="1027080"/>
            <a:ext cx="4932360" cy="3703680"/>
            <a:chOff x="1312920" y="1027080"/>
            <a:chExt cx="4932360" cy="3703680"/>
          </a:xfrm>
        </p:grpSpPr>
        <p:sp>
          <p:nvSpPr>
            <p:cNvPr id="127" name=""/>
            <p:cNvSpPr/>
            <p:nvPr/>
          </p:nvSpPr>
          <p:spPr>
            <a:xfrm>
              <a:off x="1312920" y="1027080"/>
              <a:ext cx="4932360" cy="3703680"/>
            </a:xfrm>
            <a:custGeom>
              <a:avLst/>
              <a:gdLst/>
              <a:ahLst/>
              <a:rect l="l" t="t" r="r" b="b"/>
              <a:pathLst>
                <a:path w="13703" h="10286">
                  <a:moveTo>
                    <a:pt x="0" y="0"/>
                  </a:moveTo>
                  <a:lnTo>
                    <a:pt x="13702" y="0"/>
                  </a:lnTo>
                  <a:lnTo>
                    <a:pt x="13702" y="10285"/>
                  </a:lnTo>
                  <a:lnTo>
                    <a:pt x="0" y="1028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1640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312920" y="1027080"/>
            <a:ext cx="4932360" cy="3703680"/>
            <a:chOff x="1312920" y="1027080"/>
            <a:chExt cx="4932360" cy="3703680"/>
          </a:xfrm>
        </p:grpSpPr>
        <p:sp>
          <p:nvSpPr>
            <p:cNvPr id="130" name=""/>
            <p:cNvSpPr/>
            <p:nvPr/>
          </p:nvSpPr>
          <p:spPr>
            <a:xfrm>
              <a:off x="1312920" y="1027080"/>
              <a:ext cx="4932360" cy="3703680"/>
            </a:xfrm>
            <a:custGeom>
              <a:avLst/>
              <a:gdLst/>
              <a:ahLst/>
              <a:rect l="l" t="t" r="r" b="b"/>
              <a:pathLst>
                <a:path w="13703" h="10286">
                  <a:moveTo>
                    <a:pt x="0" y="0"/>
                  </a:moveTo>
                  <a:lnTo>
                    <a:pt x="13702" y="0"/>
                  </a:lnTo>
                  <a:lnTo>
                    <a:pt x="13702" y="10285"/>
                  </a:lnTo>
                  <a:lnTo>
                    <a:pt x="0" y="1028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1640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1312920" y="1027080"/>
            <a:ext cx="4932360" cy="3703680"/>
            <a:chOff x="1312920" y="1027080"/>
            <a:chExt cx="4932360" cy="3703680"/>
          </a:xfrm>
        </p:grpSpPr>
        <p:sp>
          <p:nvSpPr>
            <p:cNvPr id="133" name=""/>
            <p:cNvSpPr/>
            <p:nvPr/>
          </p:nvSpPr>
          <p:spPr>
            <a:xfrm>
              <a:off x="1312920" y="1027080"/>
              <a:ext cx="4932360" cy="3703680"/>
            </a:xfrm>
            <a:custGeom>
              <a:avLst/>
              <a:gdLst/>
              <a:ahLst/>
              <a:rect l="l" t="t" r="r" b="b"/>
              <a:pathLst>
                <a:path w="13703" h="10286">
                  <a:moveTo>
                    <a:pt x="0" y="0"/>
                  </a:moveTo>
                  <a:lnTo>
                    <a:pt x="13702" y="0"/>
                  </a:lnTo>
                  <a:lnTo>
                    <a:pt x="13702" y="10285"/>
                  </a:lnTo>
                  <a:lnTo>
                    <a:pt x="0" y="1028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1640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1312920" y="1027080"/>
            <a:ext cx="4930560" cy="3700440"/>
            <a:chOff x="1312920" y="1027080"/>
            <a:chExt cx="4930560" cy="3700440"/>
          </a:xfrm>
        </p:grpSpPr>
        <p:sp>
          <p:nvSpPr>
            <p:cNvPr id="136" name=""/>
            <p:cNvSpPr/>
            <p:nvPr/>
          </p:nvSpPr>
          <p:spPr>
            <a:xfrm>
              <a:off x="1312920" y="1027080"/>
              <a:ext cx="4930560" cy="3700440"/>
            </a:xfrm>
            <a:custGeom>
              <a:avLst/>
              <a:gdLst/>
              <a:ahLst/>
              <a:rect l="l" t="t" r="r" b="b"/>
              <a:pathLst>
                <a:path w="13698" h="10281">
                  <a:moveTo>
                    <a:pt x="0" y="0"/>
                  </a:moveTo>
                  <a:lnTo>
                    <a:pt x="13697" y="0"/>
                  </a:lnTo>
                  <a:lnTo>
                    <a:pt x="13697" y="10280"/>
                  </a:lnTo>
                  <a:lnTo>
                    <a:pt x="0" y="1028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1640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1312920" y="1027080"/>
            <a:ext cx="4930560" cy="3700440"/>
            <a:chOff x="1312920" y="1027080"/>
            <a:chExt cx="4930560" cy="3700440"/>
          </a:xfrm>
        </p:grpSpPr>
        <p:sp>
          <p:nvSpPr>
            <p:cNvPr id="139" name=""/>
            <p:cNvSpPr/>
            <p:nvPr/>
          </p:nvSpPr>
          <p:spPr>
            <a:xfrm>
              <a:off x="1312920" y="1027080"/>
              <a:ext cx="4930560" cy="3700440"/>
            </a:xfrm>
            <a:custGeom>
              <a:avLst/>
              <a:gdLst/>
              <a:ahLst/>
              <a:rect l="l" t="t" r="r" b="b"/>
              <a:pathLst>
                <a:path w="13698" h="10281">
                  <a:moveTo>
                    <a:pt x="0" y="0"/>
                  </a:moveTo>
                  <a:lnTo>
                    <a:pt x="13697" y="0"/>
                  </a:lnTo>
                  <a:lnTo>
                    <a:pt x="13697" y="10280"/>
                  </a:lnTo>
                  <a:lnTo>
                    <a:pt x="0" y="1028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1640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12920" y="1027080"/>
            <a:ext cx="49276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1640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12920" y="1027080"/>
            <a:ext cx="49258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1640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1312920" y="1027080"/>
            <a:ext cx="4930560" cy="3700440"/>
            <a:chOff x="1312920" y="1027080"/>
            <a:chExt cx="4930560" cy="3700440"/>
          </a:xfrm>
        </p:grpSpPr>
        <p:sp>
          <p:nvSpPr>
            <p:cNvPr id="146" name=""/>
            <p:cNvSpPr/>
            <p:nvPr/>
          </p:nvSpPr>
          <p:spPr>
            <a:xfrm>
              <a:off x="1312920" y="1027080"/>
              <a:ext cx="4930560" cy="3700440"/>
            </a:xfrm>
            <a:custGeom>
              <a:avLst/>
              <a:gdLst/>
              <a:ahLst/>
              <a:rect l="l" t="t" r="r" b="b"/>
              <a:pathLst>
                <a:path w="13698" h="10281">
                  <a:moveTo>
                    <a:pt x="0" y="0"/>
                  </a:moveTo>
                  <a:lnTo>
                    <a:pt x="13697" y="0"/>
                  </a:lnTo>
                  <a:lnTo>
                    <a:pt x="13697" y="10280"/>
                  </a:lnTo>
                  <a:lnTo>
                    <a:pt x="0" y="1028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1640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1312920" y="1027080"/>
            <a:ext cx="4930560" cy="3700440"/>
            <a:chOff x="1312920" y="1027080"/>
            <a:chExt cx="4930560" cy="3700440"/>
          </a:xfrm>
        </p:grpSpPr>
        <p:sp>
          <p:nvSpPr>
            <p:cNvPr id="149" name=""/>
            <p:cNvSpPr/>
            <p:nvPr/>
          </p:nvSpPr>
          <p:spPr>
            <a:xfrm>
              <a:off x="1312920" y="1027080"/>
              <a:ext cx="4930560" cy="3700440"/>
            </a:xfrm>
            <a:custGeom>
              <a:avLst/>
              <a:gdLst/>
              <a:ahLst/>
              <a:rect l="l" t="t" r="r" b="b"/>
              <a:pathLst>
                <a:path w="13698" h="10281">
                  <a:moveTo>
                    <a:pt x="0" y="0"/>
                  </a:moveTo>
                  <a:lnTo>
                    <a:pt x="13697" y="0"/>
                  </a:lnTo>
                  <a:lnTo>
                    <a:pt x="13697" y="10280"/>
                  </a:lnTo>
                  <a:lnTo>
                    <a:pt x="0" y="1028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1640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1312920" y="1027080"/>
            <a:ext cx="4930560" cy="3700440"/>
            <a:chOff x="1312920" y="1027080"/>
            <a:chExt cx="4930560" cy="3700440"/>
          </a:xfrm>
        </p:grpSpPr>
        <p:sp>
          <p:nvSpPr>
            <p:cNvPr id="152" name=""/>
            <p:cNvSpPr/>
            <p:nvPr/>
          </p:nvSpPr>
          <p:spPr>
            <a:xfrm>
              <a:off x="1312920" y="1027080"/>
              <a:ext cx="4930560" cy="3700440"/>
            </a:xfrm>
            <a:custGeom>
              <a:avLst/>
              <a:gdLst/>
              <a:ahLst/>
              <a:rect l="l" t="t" r="r" b="b"/>
              <a:pathLst>
                <a:path w="13698" h="10281">
                  <a:moveTo>
                    <a:pt x="0" y="0"/>
                  </a:moveTo>
                  <a:lnTo>
                    <a:pt x="13697" y="0"/>
                  </a:lnTo>
                  <a:lnTo>
                    <a:pt x="13697" y="10280"/>
                  </a:lnTo>
                  <a:lnTo>
                    <a:pt x="0" y="1028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1640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312920" y="1027080"/>
            <a:ext cx="4932360" cy="3703680"/>
            <a:chOff x="1312920" y="1027080"/>
            <a:chExt cx="4932360" cy="3703680"/>
          </a:xfrm>
        </p:grpSpPr>
        <p:sp>
          <p:nvSpPr>
            <p:cNvPr id="103" name=""/>
            <p:cNvSpPr/>
            <p:nvPr/>
          </p:nvSpPr>
          <p:spPr>
            <a:xfrm>
              <a:off x="1312920" y="1027080"/>
              <a:ext cx="4932360" cy="3703680"/>
            </a:xfrm>
            <a:custGeom>
              <a:avLst/>
              <a:gdLst/>
              <a:ahLst/>
              <a:rect l="l" t="t" r="r" b="b"/>
              <a:pathLst>
                <a:path w="13703" h="10286">
                  <a:moveTo>
                    <a:pt x="0" y="0"/>
                  </a:moveTo>
                  <a:lnTo>
                    <a:pt x="13702" y="0"/>
                  </a:lnTo>
                  <a:lnTo>
                    <a:pt x="13702" y="10285"/>
                  </a:lnTo>
                  <a:lnTo>
                    <a:pt x="0" y="1028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1640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1312920" y="1027080"/>
            <a:ext cx="4930560" cy="3700440"/>
            <a:chOff x="1312920" y="1027080"/>
            <a:chExt cx="4930560" cy="3700440"/>
          </a:xfrm>
        </p:grpSpPr>
        <p:sp>
          <p:nvSpPr>
            <p:cNvPr id="155" name=""/>
            <p:cNvSpPr/>
            <p:nvPr/>
          </p:nvSpPr>
          <p:spPr>
            <a:xfrm>
              <a:off x="1312920" y="1027080"/>
              <a:ext cx="4930560" cy="3700440"/>
            </a:xfrm>
            <a:custGeom>
              <a:avLst/>
              <a:gdLst/>
              <a:ahLst/>
              <a:rect l="l" t="t" r="r" b="b"/>
              <a:pathLst>
                <a:path w="13698" h="10281">
                  <a:moveTo>
                    <a:pt x="0" y="0"/>
                  </a:moveTo>
                  <a:lnTo>
                    <a:pt x="13697" y="0"/>
                  </a:lnTo>
                  <a:lnTo>
                    <a:pt x="13697" y="10280"/>
                  </a:lnTo>
                  <a:lnTo>
                    <a:pt x="0" y="1028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1640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1312920" y="1027080"/>
            <a:ext cx="4932360" cy="3703680"/>
            <a:chOff x="1312920" y="1027080"/>
            <a:chExt cx="4932360" cy="3703680"/>
          </a:xfrm>
        </p:grpSpPr>
        <p:sp>
          <p:nvSpPr>
            <p:cNvPr id="106" name=""/>
            <p:cNvSpPr/>
            <p:nvPr/>
          </p:nvSpPr>
          <p:spPr>
            <a:xfrm>
              <a:off x="1312920" y="1027080"/>
              <a:ext cx="4932360" cy="3703680"/>
            </a:xfrm>
            <a:custGeom>
              <a:avLst/>
              <a:gdLst/>
              <a:ahLst/>
              <a:rect l="l" t="t" r="r" b="b"/>
              <a:pathLst>
                <a:path w="13703" h="10286">
                  <a:moveTo>
                    <a:pt x="0" y="0"/>
                  </a:moveTo>
                  <a:lnTo>
                    <a:pt x="13702" y="0"/>
                  </a:lnTo>
                  <a:lnTo>
                    <a:pt x="13702" y="10285"/>
                  </a:lnTo>
                  <a:lnTo>
                    <a:pt x="0" y="1028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1640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312920" y="1027080"/>
            <a:ext cx="4932360" cy="3703680"/>
            <a:chOff x="1312920" y="1027080"/>
            <a:chExt cx="4932360" cy="3703680"/>
          </a:xfrm>
        </p:grpSpPr>
        <p:sp>
          <p:nvSpPr>
            <p:cNvPr id="109" name=""/>
            <p:cNvSpPr/>
            <p:nvPr/>
          </p:nvSpPr>
          <p:spPr>
            <a:xfrm>
              <a:off x="1312920" y="1027080"/>
              <a:ext cx="4932360" cy="3703680"/>
            </a:xfrm>
            <a:custGeom>
              <a:avLst/>
              <a:gdLst/>
              <a:ahLst/>
              <a:rect l="l" t="t" r="r" b="b"/>
              <a:pathLst>
                <a:path w="13703" h="10286">
                  <a:moveTo>
                    <a:pt x="0" y="0"/>
                  </a:moveTo>
                  <a:lnTo>
                    <a:pt x="13702" y="0"/>
                  </a:lnTo>
                  <a:lnTo>
                    <a:pt x="13702" y="10285"/>
                  </a:lnTo>
                  <a:lnTo>
                    <a:pt x="0" y="1028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1640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312920" y="1027080"/>
            <a:ext cx="4932360" cy="3703680"/>
            <a:chOff x="1312920" y="1027080"/>
            <a:chExt cx="4932360" cy="3703680"/>
          </a:xfrm>
        </p:grpSpPr>
        <p:sp>
          <p:nvSpPr>
            <p:cNvPr id="112" name=""/>
            <p:cNvSpPr/>
            <p:nvPr/>
          </p:nvSpPr>
          <p:spPr>
            <a:xfrm>
              <a:off x="1312920" y="1027080"/>
              <a:ext cx="4932360" cy="3703680"/>
            </a:xfrm>
            <a:custGeom>
              <a:avLst/>
              <a:gdLst/>
              <a:ahLst/>
              <a:rect l="l" t="t" r="r" b="b"/>
              <a:pathLst>
                <a:path w="13703" h="10286">
                  <a:moveTo>
                    <a:pt x="0" y="0"/>
                  </a:moveTo>
                  <a:lnTo>
                    <a:pt x="13702" y="0"/>
                  </a:lnTo>
                  <a:lnTo>
                    <a:pt x="13702" y="10285"/>
                  </a:lnTo>
                  <a:lnTo>
                    <a:pt x="0" y="1028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1640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1312920" y="1027080"/>
            <a:ext cx="4932360" cy="3703680"/>
            <a:chOff x="1312920" y="1027080"/>
            <a:chExt cx="4932360" cy="3703680"/>
          </a:xfrm>
        </p:grpSpPr>
        <p:sp>
          <p:nvSpPr>
            <p:cNvPr id="115" name=""/>
            <p:cNvSpPr/>
            <p:nvPr/>
          </p:nvSpPr>
          <p:spPr>
            <a:xfrm>
              <a:off x="1312920" y="1027080"/>
              <a:ext cx="4932360" cy="3703680"/>
            </a:xfrm>
            <a:custGeom>
              <a:avLst/>
              <a:gdLst/>
              <a:ahLst/>
              <a:rect l="l" t="t" r="r" b="b"/>
              <a:pathLst>
                <a:path w="13703" h="10286">
                  <a:moveTo>
                    <a:pt x="0" y="0"/>
                  </a:moveTo>
                  <a:lnTo>
                    <a:pt x="13702" y="0"/>
                  </a:lnTo>
                  <a:lnTo>
                    <a:pt x="13702" y="10285"/>
                  </a:lnTo>
                  <a:lnTo>
                    <a:pt x="0" y="1028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1640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312920" y="1027080"/>
            <a:ext cx="4932360" cy="3703680"/>
            <a:chOff x="1312920" y="1027080"/>
            <a:chExt cx="4932360" cy="3703680"/>
          </a:xfrm>
        </p:grpSpPr>
        <p:sp>
          <p:nvSpPr>
            <p:cNvPr id="118" name=""/>
            <p:cNvSpPr/>
            <p:nvPr/>
          </p:nvSpPr>
          <p:spPr>
            <a:xfrm>
              <a:off x="1312920" y="1027080"/>
              <a:ext cx="4932360" cy="3703680"/>
            </a:xfrm>
            <a:custGeom>
              <a:avLst/>
              <a:gdLst/>
              <a:ahLst/>
              <a:rect l="l" t="t" r="r" b="b"/>
              <a:pathLst>
                <a:path w="13703" h="10286">
                  <a:moveTo>
                    <a:pt x="0" y="0"/>
                  </a:moveTo>
                  <a:lnTo>
                    <a:pt x="13702" y="0"/>
                  </a:lnTo>
                  <a:lnTo>
                    <a:pt x="13702" y="10285"/>
                  </a:lnTo>
                  <a:lnTo>
                    <a:pt x="0" y="1028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1640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312920" y="1027080"/>
            <a:ext cx="4932360" cy="3703680"/>
            <a:chOff x="1312920" y="1027080"/>
            <a:chExt cx="4932360" cy="3703680"/>
          </a:xfrm>
        </p:grpSpPr>
        <p:sp>
          <p:nvSpPr>
            <p:cNvPr id="121" name=""/>
            <p:cNvSpPr/>
            <p:nvPr/>
          </p:nvSpPr>
          <p:spPr>
            <a:xfrm>
              <a:off x="1312920" y="1027080"/>
              <a:ext cx="4932360" cy="3703680"/>
            </a:xfrm>
            <a:custGeom>
              <a:avLst/>
              <a:gdLst/>
              <a:ahLst/>
              <a:rect l="l" t="t" r="r" b="b"/>
              <a:pathLst>
                <a:path w="13703" h="10286">
                  <a:moveTo>
                    <a:pt x="0" y="0"/>
                  </a:moveTo>
                  <a:lnTo>
                    <a:pt x="13702" y="0"/>
                  </a:lnTo>
                  <a:lnTo>
                    <a:pt x="13702" y="10285"/>
                  </a:lnTo>
                  <a:lnTo>
                    <a:pt x="0" y="1028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1640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1312920" y="1027080"/>
            <a:ext cx="4932360" cy="3703680"/>
            <a:chOff x="1312920" y="1027080"/>
            <a:chExt cx="4932360" cy="3703680"/>
          </a:xfrm>
        </p:grpSpPr>
        <p:sp>
          <p:nvSpPr>
            <p:cNvPr id="124" name=""/>
            <p:cNvSpPr/>
            <p:nvPr/>
          </p:nvSpPr>
          <p:spPr>
            <a:xfrm>
              <a:off x="1312920" y="1027080"/>
              <a:ext cx="4932360" cy="3703680"/>
            </a:xfrm>
            <a:custGeom>
              <a:avLst/>
              <a:gdLst/>
              <a:ahLst/>
              <a:rect l="l" t="t" r="r" b="b"/>
              <a:pathLst>
                <a:path w="13703" h="10286">
                  <a:moveTo>
                    <a:pt x="0" y="0"/>
                  </a:moveTo>
                  <a:lnTo>
                    <a:pt x="13702" y="0"/>
                  </a:lnTo>
                  <a:lnTo>
                    <a:pt x="13702" y="10285"/>
                  </a:lnTo>
                  <a:lnTo>
                    <a:pt x="0" y="1028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1640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599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599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6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6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196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8000" y="4588200"/>
            <a:ext cx="4196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87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48960" y="2101320"/>
            <a:ext cx="27687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56320" y="2101320"/>
            <a:ext cx="27687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687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48960" y="4588200"/>
            <a:ext cx="27687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56320" y="4588200"/>
            <a:ext cx="27687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599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8080" indent="0" algn="ct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599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65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65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59968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8080" indent="-208080" algn="ctr">
              <a:lnSpc>
                <a:spcPct val="7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6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65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196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65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6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8000" y="4588200"/>
            <a:ext cx="4196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6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6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599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04640" y="1893960"/>
            <a:ext cx="9676080" cy="5668920"/>
            <a:chOff x="404640" y="1893960"/>
            <a:chExt cx="9676080" cy="5668920"/>
          </a:xfrm>
        </p:grpSpPr>
        <p:sp>
          <p:nvSpPr>
            <p:cNvPr id="1" name=""/>
            <p:cNvSpPr/>
            <p:nvPr/>
          </p:nvSpPr>
          <p:spPr>
            <a:xfrm>
              <a:off x="404640" y="1893960"/>
              <a:ext cx="9676080" cy="5668920"/>
            </a:xfrm>
            <a:custGeom>
              <a:avLst/>
              <a:gdLst/>
              <a:ahLst/>
              <a:rect l="l" t="t" r="r" b="b"/>
              <a:pathLst>
                <a:path w="26879" h="15745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0" y="4"/>
                    <a:pt x="0" y="15739"/>
                  </a:cubicBezTo>
                  <a:cubicBezTo>
                    <a:pt x="0" y="15741"/>
                    <a:pt x="2" y="15744"/>
                    <a:pt x="4" y="15744"/>
                  </a:cubicBezTo>
                  <a:cubicBezTo>
                    <a:pt x="6" y="15744"/>
                    <a:pt x="4" y="15744"/>
                    <a:pt x="26874" y="15744"/>
                  </a:cubicBezTo>
                  <a:cubicBezTo>
                    <a:pt x="26876" y="15744"/>
                    <a:pt x="26878" y="15741"/>
                    <a:pt x="26878" y="15739"/>
                  </a:cubicBezTo>
                  <a:cubicBezTo>
                    <a:pt x="26878" y="15737"/>
                    <a:pt x="26878" y="15739"/>
                    <a:pt x="26878" y="4"/>
                  </a:cubicBezTo>
                  <a:cubicBezTo>
                    <a:pt x="26878" y="2"/>
                    <a:pt x="26876" y="0"/>
                    <a:pt x="26874" y="0"/>
                  </a:cubicBezTo>
                  <a:cubicBezTo>
                    <a:pt x="26872" y="0"/>
                    <a:pt x="26874" y="0"/>
                    <a:pt x="4" y="0"/>
                  </a:cubicBezTo>
                </a:path>
              </a:pathLst>
            </a:custGeom>
            <a:solidFill>
              <a:srgbClr val="dddddd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599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6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6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6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208080">
              <a:lnSpc>
                <a:spcPct val="6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09520">
              <a:lnSpc>
                <a:spcPct val="6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09520">
              <a:lnSpc>
                <a:spcPct val="6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09520">
              <a:lnSpc>
                <a:spcPct val="6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182520" cy="919080"/>
            <a:chOff x="0" y="0"/>
            <a:chExt cx="182520" cy="919080"/>
          </a:xfrm>
        </p:grpSpPr>
        <p:sp>
          <p:nvSpPr>
            <p:cNvPr id="5" name=""/>
            <p:cNvSpPr/>
            <p:nvPr/>
          </p:nvSpPr>
          <p:spPr>
            <a:xfrm>
              <a:off x="0" y="0"/>
              <a:ext cx="182520" cy="919080"/>
            </a:xfrm>
            <a:custGeom>
              <a:avLst/>
              <a:gdLst/>
              <a:ahLst/>
              <a:rect l="l" t="t" r="r" b="b"/>
              <a:pathLst>
                <a:path w="509" h="2555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0" y="4"/>
                    <a:pt x="0" y="2549"/>
                  </a:cubicBezTo>
                  <a:cubicBezTo>
                    <a:pt x="0" y="2551"/>
                    <a:pt x="2" y="2554"/>
                    <a:pt x="4" y="2554"/>
                  </a:cubicBezTo>
                  <a:cubicBezTo>
                    <a:pt x="6" y="2554"/>
                    <a:pt x="4" y="2554"/>
                    <a:pt x="503" y="2554"/>
                  </a:cubicBezTo>
                  <a:cubicBezTo>
                    <a:pt x="505" y="2554"/>
                    <a:pt x="508" y="2551"/>
                    <a:pt x="508" y="2549"/>
                  </a:cubicBezTo>
                  <a:cubicBezTo>
                    <a:pt x="508" y="2547"/>
                    <a:pt x="508" y="2549"/>
                    <a:pt x="508" y="4"/>
                  </a:cubicBezTo>
                  <a:cubicBezTo>
                    <a:pt x="508" y="2"/>
                    <a:pt x="505" y="0"/>
                    <a:pt x="503" y="0"/>
                  </a:cubicBezTo>
                  <a:cubicBezTo>
                    <a:pt x="501" y="0"/>
                    <a:pt x="503" y="0"/>
                    <a:pt x="4" y="0"/>
                  </a:cubicBezTo>
                </a:path>
              </a:pathLst>
            </a:custGeom>
            <a:solidFill>
              <a:srgbClr val="125c8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0" y="2381400"/>
            <a:ext cx="182520" cy="919080"/>
            <a:chOff x="0" y="2381400"/>
            <a:chExt cx="182520" cy="919080"/>
          </a:xfrm>
        </p:grpSpPr>
        <p:sp>
          <p:nvSpPr>
            <p:cNvPr id="7" name=""/>
            <p:cNvSpPr/>
            <p:nvPr/>
          </p:nvSpPr>
          <p:spPr>
            <a:xfrm>
              <a:off x="0" y="2381400"/>
              <a:ext cx="182520" cy="919080"/>
            </a:xfrm>
            <a:custGeom>
              <a:avLst/>
              <a:gdLst/>
              <a:ahLst/>
              <a:rect l="l" t="t" r="r" b="b"/>
              <a:pathLst>
                <a:path w="509" h="2555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0" y="4"/>
                    <a:pt x="0" y="2549"/>
                  </a:cubicBezTo>
                  <a:cubicBezTo>
                    <a:pt x="0" y="2551"/>
                    <a:pt x="2" y="2554"/>
                    <a:pt x="4" y="2554"/>
                  </a:cubicBezTo>
                  <a:cubicBezTo>
                    <a:pt x="6" y="2554"/>
                    <a:pt x="4" y="2554"/>
                    <a:pt x="503" y="2554"/>
                  </a:cubicBezTo>
                  <a:cubicBezTo>
                    <a:pt x="505" y="2554"/>
                    <a:pt x="508" y="2551"/>
                    <a:pt x="508" y="2549"/>
                  </a:cubicBezTo>
                  <a:cubicBezTo>
                    <a:pt x="508" y="2547"/>
                    <a:pt x="508" y="2549"/>
                    <a:pt x="508" y="4"/>
                  </a:cubicBezTo>
                  <a:cubicBezTo>
                    <a:pt x="508" y="2"/>
                    <a:pt x="505" y="0"/>
                    <a:pt x="503" y="0"/>
                  </a:cubicBezTo>
                  <a:cubicBezTo>
                    <a:pt x="501" y="0"/>
                    <a:pt x="503" y="0"/>
                    <a:pt x="4" y="0"/>
                  </a:cubicBezTo>
                </a:path>
              </a:pathLst>
            </a:custGeom>
            <a:solidFill>
              <a:srgbClr val="125c8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1168560"/>
            <a:ext cx="182520" cy="919080"/>
            <a:chOff x="0" y="1168560"/>
            <a:chExt cx="182520" cy="919080"/>
          </a:xfrm>
        </p:grpSpPr>
        <p:sp>
          <p:nvSpPr>
            <p:cNvPr id="9" name=""/>
            <p:cNvSpPr/>
            <p:nvPr/>
          </p:nvSpPr>
          <p:spPr>
            <a:xfrm>
              <a:off x="0" y="1168560"/>
              <a:ext cx="182520" cy="919080"/>
            </a:xfrm>
            <a:custGeom>
              <a:avLst/>
              <a:gdLst/>
              <a:ahLst/>
              <a:rect l="l" t="t" r="r" b="b"/>
              <a:pathLst>
                <a:path w="509" h="2555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0" y="4"/>
                    <a:pt x="0" y="2549"/>
                  </a:cubicBezTo>
                  <a:cubicBezTo>
                    <a:pt x="0" y="2551"/>
                    <a:pt x="2" y="2554"/>
                    <a:pt x="4" y="2554"/>
                  </a:cubicBezTo>
                  <a:cubicBezTo>
                    <a:pt x="6" y="2554"/>
                    <a:pt x="4" y="2554"/>
                    <a:pt x="503" y="2554"/>
                  </a:cubicBezTo>
                  <a:cubicBezTo>
                    <a:pt x="505" y="2554"/>
                    <a:pt x="508" y="2551"/>
                    <a:pt x="508" y="2549"/>
                  </a:cubicBezTo>
                  <a:cubicBezTo>
                    <a:pt x="508" y="2547"/>
                    <a:pt x="508" y="2549"/>
                    <a:pt x="508" y="4"/>
                  </a:cubicBezTo>
                  <a:cubicBezTo>
                    <a:pt x="508" y="2"/>
                    <a:pt x="505" y="0"/>
                    <a:pt x="503" y="0"/>
                  </a:cubicBezTo>
                  <a:cubicBezTo>
                    <a:pt x="501" y="0"/>
                    <a:pt x="503" y="0"/>
                    <a:pt x="4" y="0"/>
                  </a:cubicBezTo>
                </a:path>
              </a:pathLst>
            </a:custGeom>
            <a:solidFill>
              <a:srgbClr val="125c8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Broadband Interfacing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3720" indent="0" algn="ctr">
              <a:lnSpc>
                <a:spcPct val="90000"/>
              </a:lnSpc>
              <a:buNone/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Merlin-JIVE (1-10Gb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0" algn="ctr">
              <a:lnSpc>
                <a:spcPct val="90000"/>
              </a:lnSpc>
              <a:buNone/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0" algn="ctr">
              <a:lnSpc>
                <a:spcPct val="90000"/>
              </a:lnSpc>
              <a:buNone/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nsala-Jodrell Bank (&lt;=40Gb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0" algn="ctr">
              <a:lnSpc>
                <a:spcPct val="90000"/>
              </a:lnSpc>
              <a:buNone/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0" algn="ctr">
              <a:lnSpc>
                <a:spcPct val="90000"/>
              </a:lnSpc>
              <a:buNone/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aul Burgess JBO Sept 0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Onsala-&gt;eMerlin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ximum 40 Gb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BO will increase fibre capacity to Manchester this year – 40 Gb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y need 'Lightpaths' to Ons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bob board receives incom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bob will handle delay corr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 is 'Infiniband': = 10Gi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col considerations - unkn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Protocol Issues 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path different from Intern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l-time streaming like Aud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concerned about large error r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relying on improved IP protocols like fTCP, DCCP,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Protocol Issues 2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41240" y="2101680"/>
            <a:ext cx="8609040" cy="4443480"/>
            <a:chOff x="741240" y="2101680"/>
            <a:chExt cx="8609040" cy="4443480"/>
          </a:xfrm>
        </p:grpSpPr>
        <p:sp>
          <p:nvSpPr>
            <p:cNvPr id="82" name=""/>
            <p:cNvSpPr/>
            <p:nvPr/>
          </p:nvSpPr>
          <p:spPr>
            <a:xfrm>
              <a:off x="741240" y="2101680"/>
              <a:ext cx="8609040" cy="444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423720" indent="-318960">
                <a:lnSpc>
                  <a:spcPct val="87000"/>
                </a:lnSpc>
                <a:buClr>
                  <a:srgbClr val="0e594d"/>
                </a:buClr>
                <a:buSzPct val="45000"/>
                <a:buFont typeface="Wingdings" charset="2"/>
                <a:buChar char=""/>
                <a:tabLst>
                  <a:tab algn="l" pos="423720"/>
                  <a:tab algn="l" pos="871560"/>
                  <a:tab algn="l" pos="1320840"/>
                  <a:tab algn="l" pos="1770120"/>
                  <a:tab algn="l" pos="2219400"/>
                  <a:tab algn="l" pos="2668680"/>
                  <a:tab algn="l" pos="3117960"/>
                  <a:tab algn="l" pos="3567240"/>
                  <a:tab algn="l" pos="4016520"/>
                  <a:tab algn="l" pos="4465800"/>
                  <a:tab algn="l" pos="4915080"/>
                  <a:tab algn="l" pos="5364000"/>
                  <a:tab algn="l" pos="5813280"/>
                  <a:tab algn="l" pos="6262560"/>
                  <a:tab algn="l" pos="6711840"/>
                  <a:tab algn="l" pos="7161120"/>
                  <a:tab algn="l" pos="7610400"/>
                  <a:tab algn="l" pos="8059680"/>
                  <a:tab algn="l" pos="8508960"/>
                  <a:tab algn="l" pos="8958240"/>
                  <a:tab algn="l" pos="9407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Mark5 needed tcp/ip – if packet containing vlbi header is lost, whole frame goe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23720" indent="-318960">
                <a:lnSpc>
                  <a:spcPct val="87000"/>
                </a:lnSpc>
                <a:buClr>
                  <a:srgbClr val="0e594d"/>
                </a:buClr>
                <a:buSzPct val="45000"/>
                <a:buFont typeface="Wingdings" charset="2"/>
                <a:buChar char=""/>
                <a:tabLst>
                  <a:tab algn="l" pos="423720"/>
                  <a:tab algn="l" pos="871560"/>
                  <a:tab algn="l" pos="1320840"/>
                  <a:tab algn="l" pos="1770120"/>
                  <a:tab algn="l" pos="2219400"/>
                  <a:tab algn="l" pos="2668680"/>
                  <a:tab algn="l" pos="3117960"/>
                  <a:tab algn="l" pos="3567240"/>
                  <a:tab algn="l" pos="4016520"/>
                  <a:tab algn="l" pos="4465800"/>
                  <a:tab algn="l" pos="4915080"/>
                  <a:tab algn="l" pos="5364000"/>
                  <a:tab algn="l" pos="5813280"/>
                  <a:tab algn="l" pos="6262560"/>
                  <a:tab algn="l" pos="6711840"/>
                  <a:tab algn="l" pos="7161120"/>
                  <a:tab algn="l" pos="7610400"/>
                  <a:tab algn="l" pos="8059680"/>
                  <a:tab algn="l" pos="8508960"/>
                  <a:tab algn="l" pos="8958240"/>
                  <a:tab algn="l" pos="9407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'Incoherence' between tcp/ip and VLBI framing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23720" indent="-318960">
                <a:lnSpc>
                  <a:spcPct val="87000"/>
                </a:lnSpc>
                <a:buClr>
                  <a:srgbClr val="0e594d"/>
                </a:buClr>
                <a:buSzPct val="45000"/>
                <a:buFont typeface="Wingdings" charset="2"/>
                <a:buChar char=""/>
                <a:tabLst>
                  <a:tab algn="l" pos="423720"/>
                  <a:tab algn="l" pos="871560"/>
                  <a:tab algn="l" pos="1320840"/>
                  <a:tab algn="l" pos="1770120"/>
                  <a:tab algn="l" pos="2219400"/>
                  <a:tab algn="l" pos="2668680"/>
                  <a:tab algn="l" pos="3117960"/>
                  <a:tab algn="l" pos="3567240"/>
                  <a:tab algn="l" pos="4016520"/>
                  <a:tab algn="l" pos="4465800"/>
                  <a:tab algn="l" pos="4915080"/>
                  <a:tab algn="l" pos="5364000"/>
                  <a:tab algn="l" pos="5813280"/>
                  <a:tab algn="l" pos="6262560"/>
                  <a:tab algn="l" pos="6711840"/>
                  <a:tab algn="l" pos="7161120"/>
                  <a:tab algn="l" pos="7610400"/>
                  <a:tab algn="l" pos="8059680"/>
                  <a:tab algn="l" pos="8508960"/>
                  <a:tab algn="l" pos="8958240"/>
                  <a:tab algn="l" pos="9407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But can afford to lose quite a lot of white noise data (e ~1 in 10 e -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23720" indent="-318960">
                <a:lnSpc>
                  <a:spcPct val="87000"/>
                </a:lnSpc>
                <a:buClr>
                  <a:srgbClr val="0e594d"/>
                </a:buClr>
                <a:buSzPct val="45000"/>
                <a:buFont typeface="Wingdings" charset="2"/>
                <a:buChar char=""/>
                <a:tabLst>
                  <a:tab algn="l" pos="423720"/>
                  <a:tab algn="l" pos="871560"/>
                  <a:tab algn="l" pos="1320840"/>
                  <a:tab algn="l" pos="1770120"/>
                  <a:tab algn="l" pos="2219400"/>
                  <a:tab algn="l" pos="2668680"/>
                  <a:tab algn="l" pos="3117960"/>
                  <a:tab algn="l" pos="3567240"/>
                  <a:tab algn="l" pos="4016520"/>
                  <a:tab algn="l" pos="4465800"/>
                  <a:tab algn="l" pos="4915080"/>
                  <a:tab algn="l" pos="5364000"/>
                  <a:tab algn="l" pos="5813280"/>
                  <a:tab algn="l" pos="6262560"/>
                  <a:tab algn="l" pos="6711840"/>
                  <a:tab algn="l" pos="7161120"/>
                  <a:tab algn="l" pos="7610400"/>
                  <a:tab algn="l" pos="8059680"/>
                  <a:tab algn="l" pos="8508960"/>
                  <a:tab algn="l" pos="8958240"/>
                  <a:tab algn="l" pos="9407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Reorganise data to fit 10G Etherne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23720" indent="-318960">
                <a:lnSpc>
                  <a:spcPct val="87000"/>
                </a:lnSpc>
                <a:buClr>
                  <a:srgbClr val="0e594d"/>
                </a:buClr>
                <a:buSzPct val="45000"/>
                <a:buFont typeface="Wingdings" charset="2"/>
                <a:buChar char=""/>
                <a:tabLst>
                  <a:tab algn="l" pos="423720"/>
                  <a:tab algn="l" pos="871560"/>
                  <a:tab algn="l" pos="1320840"/>
                  <a:tab algn="l" pos="1770120"/>
                  <a:tab algn="l" pos="2219400"/>
                  <a:tab algn="l" pos="2668680"/>
                  <a:tab algn="l" pos="3117960"/>
                  <a:tab algn="l" pos="3567240"/>
                  <a:tab algn="l" pos="4016520"/>
                  <a:tab algn="l" pos="4465800"/>
                  <a:tab algn="l" pos="4915080"/>
                  <a:tab algn="l" pos="5364000"/>
                  <a:tab algn="l" pos="5813280"/>
                  <a:tab algn="l" pos="6262560"/>
                  <a:tab algn="l" pos="6711840"/>
                  <a:tab algn="l" pos="7161120"/>
                  <a:tab algn="l" pos="7610400"/>
                  <a:tab algn="l" pos="8059680"/>
                  <a:tab algn="l" pos="8508960"/>
                  <a:tab algn="l" pos="8958240"/>
                  <a:tab algn="l" pos="9407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Assume 10GE is always a standar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23720" indent="-318960">
                <a:lnSpc>
                  <a:spcPct val="87000"/>
                </a:lnSpc>
                <a:buClr>
                  <a:srgbClr val="0e594d"/>
                </a:buClr>
                <a:buSzPct val="45000"/>
                <a:buFont typeface="Wingdings" charset="2"/>
                <a:buChar char=""/>
                <a:tabLst>
                  <a:tab algn="l" pos="423720"/>
                  <a:tab algn="l" pos="871560"/>
                  <a:tab algn="l" pos="1320840"/>
                  <a:tab algn="l" pos="1770120"/>
                  <a:tab algn="l" pos="2219400"/>
                  <a:tab algn="l" pos="2668680"/>
                  <a:tab algn="l" pos="3117960"/>
                  <a:tab algn="l" pos="3567240"/>
                  <a:tab algn="l" pos="4016520"/>
                  <a:tab algn="l" pos="4465800"/>
                  <a:tab algn="l" pos="4915080"/>
                  <a:tab algn="l" pos="5364000"/>
                  <a:tab algn="l" pos="5813280"/>
                  <a:tab algn="l" pos="6262560"/>
                  <a:tab algn="l" pos="6711840"/>
                  <a:tab algn="l" pos="7161120"/>
                  <a:tab algn="l" pos="7610400"/>
                  <a:tab algn="l" pos="8059680"/>
                  <a:tab algn="l" pos="8508960"/>
                  <a:tab algn="l" pos="8958240"/>
                  <a:tab algn="l" pos="9407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New correlators – assume &gt;&gt; 1Gbp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23720" indent="-318960">
                <a:lnSpc>
                  <a:spcPct val="87000"/>
                </a:lnSpc>
                <a:buClr>
                  <a:srgbClr val="0e594d"/>
                </a:buClr>
                <a:buSzPct val="45000"/>
                <a:buFont typeface="Wingdings" charset="2"/>
                <a:buChar char=""/>
                <a:tabLst>
                  <a:tab algn="l" pos="423720"/>
                  <a:tab algn="l" pos="871560"/>
                  <a:tab algn="l" pos="1320840"/>
                  <a:tab algn="l" pos="1770120"/>
                  <a:tab algn="l" pos="2219400"/>
                  <a:tab algn="l" pos="2668680"/>
                  <a:tab algn="l" pos="3117960"/>
                  <a:tab algn="l" pos="3567240"/>
                  <a:tab algn="l" pos="4016520"/>
                  <a:tab algn="l" pos="4465800"/>
                  <a:tab algn="l" pos="4915080"/>
                  <a:tab algn="l" pos="5364000"/>
                  <a:tab algn="l" pos="5813280"/>
                  <a:tab algn="l" pos="6262560"/>
                  <a:tab algn="l" pos="6711840"/>
                  <a:tab algn="l" pos="7161120"/>
                  <a:tab algn="l" pos="7610400"/>
                  <a:tab algn="l" pos="8059680"/>
                  <a:tab algn="l" pos="8508960"/>
                  <a:tab algn="l" pos="8958240"/>
                  <a:tab algn="l" pos="9407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New disk recorders can use 10G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760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Observatio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THERNET has always been here pci,pcie,pcix,others- been and g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P and Ethernet are long-term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760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xisting Hardwa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bob – 'Minimal' Xilinx V2 card - Mod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alised for Digital Radio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y limited onboard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n't run 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appear as a Linux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s two sampler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E2 – multi-Xilinx with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mor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a corre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19280" y="1979640"/>
            <a:ext cx="7020000" cy="5400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BEE2 and iBob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sts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7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bob Board, no CPU - $1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7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E2 -                        $1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7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7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ilinx CPUs – may be free, may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760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rk5 Issu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grade path -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rrelator goes to M5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ions must go Mk4-Mk5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k5B is VSI compli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k5B can upgrade to 2GBPS 'Mk5+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require local connection at J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toward DBE after 2-3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760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AVEATS!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ust missed an iBob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ilinx chips not supplied – may be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IP problems – eg. Tcp sta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nelizing/'corner-turning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SI – H and S are out of date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VSIE is Upgrade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760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o-Do List 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re Digital Hardware Engineer at J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ct Dan Wertheimer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Price completed iBobs (sans c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Boards – obtainf CAD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Find way to assemble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Obtain Xilinx chips s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Possible local manufa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Do we need a memory board (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merlin Current Thinking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3720" indent="-214200">
              <a:lnSpc>
                <a:spcPct val="90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Merlin receivers+samplers inst. 2007/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214200">
              <a:lnSpc>
                <a:spcPct val="90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ibre testing phase cur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214200">
              <a:lnSpc>
                <a:spcPct val="90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amplers exist – format different from VL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214200">
              <a:lnSpc>
                <a:spcPct val="90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2 Gb, 3-bit or 8-bit: need RFI rejection th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214200">
              <a:lnSpc>
                <a:spcPct val="90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eed to interface existing Mark5's (~+5y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214200">
              <a:lnSpc>
                <a:spcPct val="90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eed to interface to Jive and Onsa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214200">
              <a:lnSpc>
                <a:spcPct val="90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Merlin will have rotational corrections in SB'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760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VLA - eVLBI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ystack talk – Steve Du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arent recent increase in VLBI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ORMATTER – plugs in to WI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SI on-board, but needs Xilin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VLBI Current Statu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001/2: PCEV system gave first 1gbps fringes in 'near-realtime' (~4 hr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rdware not directly compatible with Mk5, and JIVE must run Mark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001-Now: Built up hard real-time eVLBI between JIVE and EVN 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rrelator load incr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stations with 1Gb fibres = &lt;=512 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ccessful tests and science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eatable – but beware co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wo Approach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eMerlin band to analog and resample with existing hardware – now rejected as ineffici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cess digitally – better, more flexible but requires specific skills (Xilin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rdware is tricky – but DW has built 'iBob' and 'Bee2' general-purpose boa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B is building Xilinx experience and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ersible, OK for both interface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So it's iBobs all round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Hardware vs Softwa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>
              <a:lnSpc>
                <a:spcPct val="87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479520"/>
                <a:tab algn="l" pos="928800"/>
                <a:tab algn="l" pos="137808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87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28800"/>
                <a:tab algn="l" pos="137808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, cheap but problems: 'indeterminancy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87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479520"/>
                <a:tab algn="l" pos="928800"/>
                <a:tab algn="l" pos="137808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87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28800"/>
                <a:tab algn="l" pos="137808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performance, more effort, more time, greater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87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479520"/>
                <a:tab algn="l" pos="928800"/>
                <a:tab algn="l" pos="137808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 are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87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479520"/>
                <a:tab algn="l" pos="928800"/>
                <a:tab algn="l" pos="137808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wthru architecture best for SW or H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87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479520"/>
                <a:tab algn="l" pos="928800"/>
                <a:tab algn="l" pos="137808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dware issue: Clock Synchro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System Interconnec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989964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dditional Factor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41240" y="2101680"/>
            <a:ext cx="8609040" cy="3989520"/>
            <a:chOff x="741240" y="2101680"/>
            <a:chExt cx="8609040" cy="3989520"/>
          </a:xfrm>
        </p:grpSpPr>
        <p:sp>
          <p:nvSpPr>
            <p:cNvPr id="71" name=""/>
            <p:cNvSpPr/>
            <p:nvPr/>
          </p:nvSpPr>
          <p:spPr>
            <a:xfrm>
              <a:off x="741240" y="2101680"/>
              <a:ext cx="8609040" cy="39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423720" indent="-318960">
                <a:lnSpc>
                  <a:spcPct val="87000"/>
                </a:lnSpc>
                <a:buClr>
                  <a:srgbClr val="0e594d"/>
                </a:buClr>
                <a:buSzPct val="45000"/>
                <a:buFont typeface="Wingdings" charset="2"/>
                <a:buChar char=""/>
                <a:tabLst>
                  <a:tab algn="l" pos="423720"/>
                  <a:tab algn="l" pos="871560"/>
                  <a:tab algn="l" pos="1320840"/>
                  <a:tab algn="l" pos="1770120"/>
                  <a:tab algn="l" pos="2219400"/>
                  <a:tab algn="l" pos="2668680"/>
                  <a:tab algn="l" pos="3117960"/>
                  <a:tab algn="l" pos="3567240"/>
                  <a:tab algn="l" pos="4016520"/>
                  <a:tab algn="l" pos="4465800"/>
                  <a:tab algn="l" pos="4915080"/>
                  <a:tab algn="l" pos="5364000"/>
                  <a:tab algn="l" pos="5813280"/>
                  <a:tab algn="l" pos="6262560"/>
                  <a:tab algn="l" pos="6711840"/>
                  <a:tab algn="l" pos="7161120"/>
                  <a:tab algn="l" pos="7610400"/>
                  <a:tab algn="l" pos="8059680"/>
                  <a:tab algn="l" pos="8508960"/>
                  <a:tab algn="l" pos="8958240"/>
                  <a:tab algn="l" pos="9407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Maintain connection to both local Mark5'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23720" indent="-318960">
                <a:lnSpc>
                  <a:spcPct val="87000"/>
                </a:lnSpc>
                <a:buClr>
                  <a:srgbClr val="0e594d"/>
                </a:buClr>
                <a:buSzPct val="45000"/>
                <a:buFont typeface="Wingdings" charset="2"/>
                <a:buChar char=""/>
                <a:tabLst>
                  <a:tab algn="l" pos="423720"/>
                  <a:tab algn="l" pos="871560"/>
                  <a:tab algn="l" pos="1320840"/>
                  <a:tab algn="l" pos="1770120"/>
                  <a:tab algn="l" pos="2219400"/>
                  <a:tab algn="l" pos="2668680"/>
                  <a:tab algn="l" pos="3117960"/>
                  <a:tab algn="l" pos="3567240"/>
                  <a:tab algn="l" pos="4016520"/>
                  <a:tab algn="l" pos="4465800"/>
                  <a:tab algn="l" pos="4915080"/>
                  <a:tab algn="l" pos="5364000"/>
                  <a:tab algn="l" pos="5813280"/>
                  <a:tab algn="l" pos="6262560"/>
                  <a:tab algn="l" pos="6711840"/>
                  <a:tab algn="l" pos="7161120"/>
                  <a:tab algn="l" pos="7610400"/>
                  <a:tab algn="l" pos="8059680"/>
                  <a:tab algn="l" pos="8508960"/>
                  <a:tab algn="l" pos="8958240"/>
                  <a:tab algn="l" pos="9407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Prepare to replace Mk4/VLBA Data Rack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23720" indent="-318960">
                <a:lnSpc>
                  <a:spcPct val="87000"/>
                </a:lnSpc>
                <a:buClr>
                  <a:srgbClr val="0e594d"/>
                </a:buClr>
                <a:buSzPct val="45000"/>
                <a:buFont typeface="Wingdings" charset="2"/>
                <a:buChar char=""/>
                <a:tabLst>
                  <a:tab algn="l" pos="423720"/>
                  <a:tab algn="l" pos="871560"/>
                  <a:tab algn="l" pos="1320840"/>
                  <a:tab algn="l" pos="1770120"/>
                  <a:tab algn="l" pos="2219400"/>
                  <a:tab algn="l" pos="2668680"/>
                  <a:tab algn="l" pos="3117960"/>
                  <a:tab algn="l" pos="3567240"/>
                  <a:tab algn="l" pos="4016520"/>
                  <a:tab algn="l" pos="4465800"/>
                  <a:tab algn="l" pos="4915080"/>
                  <a:tab algn="l" pos="5364000"/>
                  <a:tab algn="l" pos="5813280"/>
                  <a:tab algn="l" pos="6262560"/>
                  <a:tab algn="l" pos="6711840"/>
                  <a:tab algn="l" pos="7161120"/>
                  <a:tab algn="l" pos="7610400"/>
                  <a:tab algn="l" pos="8059680"/>
                  <a:tab algn="l" pos="8508960"/>
                  <a:tab algn="l" pos="8958240"/>
                  <a:tab algn="l" pos="9407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Build-in  flexibilit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23720" indent="-318960">
                <a:lnSpc>
                  <a:spcPct val="87000"/>
                </a:lnSpc>
                <a:buClr>
                  <a:srgbClr val="0e594d"/>
                </a:buClr>
                <a:buSzPct val="45000"/>
                <a:buFont typeface="Wingdings" charset="2"/>
                <a:buChar char=""/>
                <a:tabLst>
                  <a:tab algn="l" pos="423720"/>
                  <a:tab algn="l" pos="871560"/>
                  <a:tab algn="l" pos="1320840"/>
                  <a:tab algn="l" pos="1770120"/>
                  <a:tab algn="l" pos="2219400"/>
                  <a:tab algn="l" pos="2668680"/>
                  <a:tab algn="l" pos="3117960"/>
                  <a:tab algn="l" pos="3567240"/>
                  <a:tab algn="l" pos="4016520"/>
                  <a:tab algn="l" pos="4465800"/>
                  <a:tab algn="l" pos="4915080"/>
                  <a:tab algn="l" pos="5364000"/>
                  <a:tab algn="l" pos="5813280"/>
                  <a:tab algn="l" pos="6262560"/>
                  <a:tab algn="l" pos="6711840"/>
                  <a:tab algn="l" pos="7161120"/>
                  <a:tab algn="l" pos="7610400"/>
                  <a:tab algn="l" pos="8059680"/>
                  <a:tab algn="l" pos="8508960"/>
                  <a:tab algn="l" pos="8958240"/>
                  <a:tab algn="l" pos="9407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Support new correlator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23720" indent="-318960">
                <a:lnSpc>
                  <a:spcPct val="87000"/>
                </a:lnSpc>
                <a:buClr>
                  <a:srgbClr val="0e594d"/>
                </a:buClr>
                <a:buSzPct val="45000"/>
                <a:buFont typeface="Wingdings" charset="2"/>
                <a:buChar char=""/>
                <a:tabLst>
                  <a:tab algn="l" pos="423720"/>
                  <a:tab algn="l" pos="871560"/>
                  <a:tab algn="l" pos="1320840"/>
                  <a:tab algn="l" pos="1770120"/>
                  <a:tab algn="l" pos="2219400"/>
                  <a:tab algn="l" pos="2668680"/>
                  <a:tab algn="l" pos="3117960"/>
                  <a:tab algn="l" pos="3567240"/>
                  <a:tab algn="l" pos="4016520"/>
                  <a:tab algn="l" pos="4465800"/>
                  <a:tab algn="l" pos="4915080"/>
                  <a:tab algn="l" pos="5364000"/>
                  <a:tab algn="l" pos="5813280"/>
                  <a:tab algn="l" pos="6262560"/>
                  <a:tab algn="l" pos="6711840"/>
                  <a:tab algn="l" pos="7161120"/>
                  <a:tab algn="l" pos="7610400"/>
                  <a:tab algn="l" pos="8059680"/>
                  <a:tab algn="l" pos="8508960"/>
                  <a:tab algn="l" pos="8958240"/>
                  <a:tab algn="l" pos="9407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Slight loss of band placement precision – not likely to be a proble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23720" indent="-318960">
                <a:lnSpc>
                  <a:spcPct val="87000"/>
                </a:lnSpc>
                <a:buClr>
                  <a:srgbClr val="0e594d"/>
                </a:buClr>
                <a:buSzPct val="45000"/>
                <a:buFont typeface="Wingdings" charset="2"/>
                <a:buChar char=""/>
                <a:tabLst>
                  <a:tab algn="l" pos="423720"/>
                  <a:tab algn="l" pos="871560"/>
                  <a:tab algn="l" pos="1320840"/>
                  <a:tab algn="l" pos="1770120"/>
                  <a:tab algn="l" pos="2219400"/>
                  <a:tab algn="l" pos="2668680"/>
                  <a:tab algn="l" pos="3117960"/>
                  <a:tab algn="l" pos="3567240"/>
                  <a:tab algn="l" pos="4016520"/>
                  <a:tab algn="l" pos="4465800"/>
                  <a:tab algn="l" pos="4915080"/>
                  <a:tab algn="l" pos="5364000"/>
                  <a:tab algn="l" pos="5813280"/>
                  <a:tab algn="l" pos="6262560"/>
                  <a:tab algn="l" pos="6711840"/>
                  <a:tab algn="l" pos="7161120"/>
                  <a:tab algn="l" pos="7610400"/>
                  <a:tab algn="l" pos="8059680"/>
                  <a:tab algn="l" pos="8508960"/>
                  <a:tab algn="l" pos="8958240"/>
                  <a:tab algn="l" pos="9407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WIDAR Corr. Has 10KHz offsets – possible problem with some spectral line exp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23720" indent="-318960">
                <a:lnSpc>
                  <a:spcPct val="87000"/>
                </a:lnSpc>
                <a:buClr>
                  <a:srgbClr val="0e594d"/>
                </a:buClr>
                <a:buSzPct val="45000"/>
                <a:buFont typeface="Wingdings" charset="2"/>
                <a:buChar char=""/>
                <a:tabLst>
                  <a:tab algn="l" pos="423720"/>
                  <a:tab algn="l" pos="871560"/>
                  <a:tab algn="l" pos="1320840"/>
                  <a:tab algn="l" pos="1770120"/>
                  <a:tab algn="l" pos="2219400"/>
                  <a:tab algn="l" pos="2668680"/>
                  <a:tab algn="l" pos="3117960"/>
                  <a:tab algn="l" pos="3567240"/>
                  <a:tab algn="l" pos="4016520"/>
                  <a:tab algn="l" pos="4465800"/>
                  <a:tab algn="l" pos="4915080"/>
                  <a:tab algn="l" pos="5364000"/>
                  <a:tab algn="l" pos="5813280"/>
                  <a:tab algn="l" pos="6262560"/>
                  <a:tab algn="l" pos="6711840"/>
                  <a:tab algn="l" pos="7161120"/>
                  <a:tab algn="l" pos="7610400"/>
                  <a:tab algn="l" pos="8059680"/>
                  <a:tab algn="l" pos="8508960"/>
                  <a:tab algn="l" pos="8958240"/>
                  <a:tab algn="l" pos="9407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Require upward expansion path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Interface eMerlin to Interne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46160" y="2021040"/>
            <a:ext cx="8153280" cy="48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Merlin-&gt;JIVE Interf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 Design from Bryan Anderson at JB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ing with one iBob – really needs memory for delay correction in long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tests with JB as 'Zero Delay'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ify incoming eMerlin format to VLBI-compatible – protocol issu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ve local delay/rotation cor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ample if necessa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iltering (Polyphase prefer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